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5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147-32A7-4A5D-9351-8F4F2B55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133-EA14-4594-A34B-0762A099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1EA-11A6-4801-9ED7-170EE681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AE4-211E-4504-AD3D-AE1F98E9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A8FA-AFE6-47F3-9075-1C900311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6CB-1B09-4CA9-898C-7CCEE8C8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EFA2-53A1-4D95-9A58-3FEE6D71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0CA-ADE7-4C11-B2FF-49092CD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5F6D-03F2-444F-AAE2-4BF9C7C5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107D-25E8-45B8-80C7-DAA65659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C0A2-FFA3-4031-B4F5-070D526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D9B-D18C-4914-99B2-8FC9FDA5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1D49-99DE-4E5E-AA4E-004A0C2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B8BB-5CB9-438D-B265-DCC45B7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D235-D456-4938-A29B-8D27895D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479C-3FCB-45EB-9336-AD5C33F3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976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6920" y="160020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976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6920" y="3964320"/>
            <a:ext cx="253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BC9-3E5D-4E43-9EF9-508021D0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0F1-CFF0-425A-A4E7-5576083B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640-A59F-435E-85C6-07F8D2AB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154-7315-4E53-99C9-3DF1538F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600" y="274320"/>
            <a:ext cx="7929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D1E-285E-4FD8-BA8C-75FFEFA3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4DC-32E8-46A1-8960-6602D0C8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432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B56-C92D-4A2C-BA53-530EE57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3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785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F49-2932-43FE-8BEA-E928F2F3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AD4E-622C-4D9B-AC11-F2F0CE0EF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6923-04B5-4EB1-82CA-3AB8E2109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187280" y="3068640"/>
            <a:ext cx="6191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642960" y="981000"/>
            <a:ext cx="77724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яриметрически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анали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11_01_02_11 (1)"/>
          <p:cNvPicPr/>
          <p:nvPr/>
        </p:nvPicPr>
        <p:blipFill>
          <a:blip r:embed="rId2"/>
          <a:stretch/>
        </p:blipFill>
        <p:spPr>
          <a:xfrm>
            <a:off x="3059280" y="0"/>
            <a:ext cx="6084720" cy="4175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40053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понимают угол, на который повернется плоскость поляризации при прохождении поляризованного луча через раств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11280" y="189000"/>
            <a:ext cx="266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Arial"/>
              </a:rPr>
              <a:t>Оптическая активность вещества характеризу-ется удельным вращением (s), под которы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858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 1 мл раствора содержится 1 г растворенного вещества при толщине слоя раствора (длине поляризационной трубки), равной 1 д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Где </a:t>
            </a:r>
            <a:r>
              <a:rPr b="0" lang="ru-RU" sz="4800" spc="-1" strike="noStrike">
                <a:solidFill>
                  <a:srgbClr val="cc0000"/>
                </a:solidFill>
                <a:latin typeface="Calibri"/>
              </a:rPr>
              <a:t>1-</a:t>
            </a:r>
            <a:r>
              <a:rPr b="0" i="1" lang="ru-RU" sz="40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длина трубки, д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     </a:t>
            </a: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С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-концентрация вещества, г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/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100м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42960" y="620280"/>
            <a:ext cx="7858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Угол вращения плоскости поляризации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а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определяют по формул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4321440" cy="1860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18" name="Rectangle 5"/>
          <p:cNvSpPr/>
          <p:nvPr/>
        </p:nvSpPr>
        <p:spPr>
          <a:xfrm>
            <a:off x="684360" y="386064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Где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-</a:t>
            </a:r>
            <a:r>
              <a:rPr b="0" i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длина трубки, д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263600" y="4581360"/>
            <a:ext cx="71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концентрация вещества, г</a:t>
            </a: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9999"/>
                </a:solidFill>
                <a:latin typeface="Arial"/>
              </a:rPr>
              <a:t>100м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85808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Calibri"/>
              </a:rPr>
              <a:t>Из этой формулы легко вычислить концентрацию С, если известен угол вращения: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3816360" cy="2133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00"/>
                </a:solidFill>
                <a:uFillTx/>
                <a:latin typeface="Calibri"/>
              </a:rPr>
              <a:t>Поперечность световых волн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световая волна, идущая от источника света, полностью симметрична относительно направления распространения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волна, вышедшая из первого кристалла, не обладает осевой симметрией (в зависимости от поворота второго кристалла относительно луча получается та пли иная интенсивность прошедшего I света).</a:t>
            </a:r>
            <a:br>
              <a:rPr sz="2800"/>
            </a:b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351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Поперечность световых волн выражается в том, что колеблющиеся в них векторы напряжённости электрического поля </a:t>
            </a: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Calibri"/>
              </a:rPr>
              <a:t>Е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 и напряжённости магнитного поля </a:t>
            </a:r>
            <a:r>
              <a:rPr b="1" i="1" lang="ru-RU" sz="2800" spc="-1" strike="noStrike" u="sng">
                <a:solidFill>
                  <a:srgbClr val="009999"/>
                </a:solidFill>
                <a:uFillTx/>
                <a:latin typeface="Calibri"/>
              </a:rPr>
              <a:t>Н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 перпендикулярны направлению распространения вол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51"/>
          <p:cNvPicPr/>
          <p:nvPr/>
        </p:nvPicPr>
        <p:blipFill>
          <a:blip r:embed="rId2"/>
          <a:stretch/>
        </p:blipFill>
        <p:spPr>
          <a:xfrm>
            <a:off x="611280" y="3357720"/>
            <a:ext cx="7993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51"/>
          <p:cNvPicPr/>
          <p:nvPr/>
        </p:nvPicPr>
        <p:blipFill>
          <a:blip r:embed="rId2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900000" y="5013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оперечность световых вол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lcd-pixel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К частичной или полной поляризации света могут приводить: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отражение и преломление света, при которых поляризация света обусловлена различием оптических характеристик границы раздела двух сред для компонентов светового пучка, поляризованных параллельно и перпендикулярно плоскости п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42960" y="692280"/>
            <a:ext cx="7858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2.   Прохождение через среды, обладающие естественной или вызванной внешними воздействиями оптической анизотропией вследствие неодинаковости коэффициентов поглощения света при различных состояниях поляризации света, например при правой и левой круговых поляризациях - т. н. круговой дихроизм, являющийся частным случаем плеохроизма; вследствие различия преломления показателей среды для лучей различных линейных поляризаций - двойного лучепрелом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4000" y="980640"/>
            <a:ext cx="4105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Calibri"/>
              </a:rPr>
              <a:t>Поляриметрический метод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служит для количественного определения оптически активных веществ, растворы которых вращают плоскость поляризованного луч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02"/>
          <p:cNvPicPr/>
          <p:nvPr/>
        </p:nvPicPr>
        <p:blipFill>
          <a:blip r:embed="rId2"/>
          <a:stretch/>
        </p:blipFill>
        <p:spPr>
          <a:xfrm>
            <a:off x="4716360" y="620640"/>
            <a:ext cx="3965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38" name="Picture 4" descr="article-monitor-03"/>
          <p:cNvPicPr/>
          <p:nvPr/>
        </p:nvPicPr>
        <p:blipFill>
          <a:blip r:embed="rId2"/>
          <a:stretch/>
        </p:blipFill>
        <p:spPr>
          <a:xfrm>
            <a:off x="0" y="620640"/>
            <a:ext cx="9217080" cy="479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0" y="5300640"/>
            <a:ext cx="9396360" cy="155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9396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Calibri"/>
              </a:rPr>
              <a:t> 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Calibri"/>
              </a:rPr>
              <a:t>Хроматическая поляризация света</a:t>
            </a:r>
            <a:r>
              <a:rPr b="0" lang="en-US" sz="44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2960" y="126828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Хроматическая поляризация света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одно из эффектов интерференции поляризованных лучей света, связанное с зависимостью всех интерференционных явлений от длины волны излучения. Она проявляется, в частности, в окрашивании интерференционной картины, возникающей при интерференции белого света.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pic>
        <p:nvPicPr>
          <p:cNvPr id="144" name="Picture 4" descr="5_big"/>
          <p:cNvPicPr/>
          <p:nvPr/>
        </p:nvPicPr>
        <p:blipFill>
          <a:blip r:embed="rId2"/>
          <a:stretch/>
        </p:blipFill>
        <p:spPr>
          <a:xfrm>
            <a:off x="0" y="0"/>
            <a:ext cx="9144000" cy="468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6"/>
          <p:cNvSpPr txBox="1"/>
          <p:nvPr/>
        </p:nvSpPr>
        <p:spPr>
          <a:xfrm>
            <a:off x="1547640" y="4724280"/>
            <a:ext cx="6048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4f81bd"/>
                </a:solidFill>
                <a:latin typeface="Arial"/>
              </a:rPr>
              <a:t>Схема получения картины</a:t>
            </a:r>
            <a:endParaRPr b="1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4f81b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4f81bd"/>
                </a:solidFill>
                <a:latin typeface="Arial"/>
              </a:rPr>
              <a:t>хроматической </a:t>
            </a:r>
            <a:endParaRPr b="1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4f81b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1f497d"/>
                  </a:solidFill>
                  <a:miter/>
                </a:ln>
                <a:solidFill>
                  <a:srgbClr val="4f81bd"/>
                </a:solidFill>
                <a:latin typeface="Arial"/>
              </a:rPr>
              <a:t>поляризации света</a:t>
            </a:r>
            <a:endParaRPr b="1" lang="en-US" sz="1800" spc="1" strike="noStrike">
              <a:ln w="9360">
                <a:solidFill>
                  <a:srgbClr val="1f497d"/>
                </a:solidFill>
                <a:miter/>
              </a:ln>
              <a:solidFill>
                <a:srgbClr val="4f81bd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8" descr="235006362"/>
          <p:cNvPicPr/>
          <p:nvPr/>
        </p:nvPicPr>
        <p:blipFill>
          <a:blip r:embed="rId2"/>
          <a:stretch/>
        </p:blipFill>
        <p:spPr>
          <a:xfrm>
            <a:off x="-252360" y="0"/>
            <a:ext cx="4824360" cy="462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217299659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4"/>
          <a:stretch/>
        </p:blipFill>
        <p:spPr>
          <a:xfrm>
            <a:off x="0" y="4365720"/>
            <a:ext cx="9144000" cy="26683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11"/>
          <p:cNvSpPr txBox="1"/>
          <p:nvPr/>
        </p:nvSpPr>
        <p:spPr>
          <a:xfrm>
            <a:off x="1619280" y="4941720"/>
            <a:ext cx="568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роматиче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яризация св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00"/>
                </a:solidFill>
                <a:uFillTx/>
                <a:latin typeface="Calibri"/>
              </a:rPr>
              <a:t>Двойное лучепреломление</a:t>
            </a:r>
            <a:r>
              <a:rPr b="0" lang="ru-RU" sz="44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26828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Двойное лучепреломление</a:t>
            </a:r>
            <a:r>
              <a:rPr b="0" lang="ru-RU" sz="3200" spc="-1" strike="noStrike">
                <a:solidFill>
                  <a:srgbClr val="cc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это явление расщепления пучка света в анизотропной среде на два слагающих, распространяющихся с разными скоростями и поляризованных в двух взаимно перпендикулярных плоскостя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42960" y="692280"/>
            <a:ext cx="7858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Световой пучок падая перпендикулярно к поверхности кристалла, распадается на два пучка, один из которых продолжает путь без преломления, другой же отклоняется в сторону, нарушая обычный закон преломления света. Соответственно этому лучи первого пучка называются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обыкновенными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, второго -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необыкновенными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42960" y="692280"/>
            <a:ext cx="7858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Угол двойного лучепреломления-</a:t>
            </a:r>
            <a:r>
              <a:rPr b="1" i="1" lang="ru-RU" sz="3200" spc="-1" strike="noStrike">
                <a:solidFill>
                  <a:srgbClr val="009999"/>
                </a:solidFill>
                <a:latin typeface="Calibri"/>
              </a:rPr>
              <a:t>     угол, образуемый обыкновенным и необыкновенным луч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image107"/>
          <p:cNvPicPr/>
          <p:nvPr/>
        </p:nvPicPr>
        <p:blipFill>
          <a:blip r:embed="rId2"/>
          <a:stretch/>
        </p:blipFill>
        <p:spPr>
          <a:xfrm>
            <a:off x="611280" y="2492280"/>
            <a:ext cx="792144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671410"/>
          <p:cNvPicPr/>
          <p:nvPr/>
        </p:nvPicPr>
        <p:blipFill>
          <a:blip r:embed="rId2"/>
          <a:stretch/>
        </p:blipFill>
        <p:spPr>
          <a:xfrm>
            <a:off x="-324000" y="-82440"/>
            <a:ext cx="9468000" cy="70038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2700360" y="0"/>
            <a:ext cx="4464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Двойное преломление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угл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0014-014-Spasibo-za-vniman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43210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Поляриметрический метод 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основан на свойстве некоторых веществ изменять направление световых колеба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image006"/>
          <p:cNvPicPr/>
          <p:nvPr/>
        </p:nvPicPr>
        <p:blipFill>
          <a:blip r:embed="rId2"/>
          <a:stretch/>
        </p:blipFill>
        <p:spPr>
          <a:xfrm>
            <a:off x="4500720" y="620640"/>
            <a:ext cx="4389120" cy="4826160"/>
          </a:xfrm>
          <a:prstGeom prst="rect">
            <a:avLst/>
          </a:prstGeom>
          <a:ln w="0">
            <a:noFill/>
          </a:ln>
        </p:spPr>
      </p:pic>
      <p:sp>
        <p:nvSpPr>
          <p:cNvPr id="88" name="WordArt 9"/>
          <p:cNvSpPr txBox="1"/>
          <p:nvPr/>
        </p:nvSpPr>
        <p:spPr>
          <a:xfrm>
            <a:off x="4859280" y="5516640"/>
            <a:ext cx="41022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ветовые колеб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лу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Оптически активные</a:t>
            </a:r>
            <a:r>
              <a:rPr b="1" i="1" lang="en-US" sz="4000" spc="-1" strike="noStrike">
                <a:solidFill>
                  <a:srgbClr val="cc0000"/>
                </a:solidFill>
                <a:latin typeface="Calibri"/>
              </a:rPr>
              <a:t> вещества-</a:t>
            </a:r>
            <a:endParaRPr b="0" lang="en-US" sz="40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Вещества, обладающие свойством изменять направление колебаний при прохождении через них поляризованного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Это сахароза, глюкоза, мальтоза и фруктоз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Для количественного определения оптически активных веществ в продуктах пользуются прибором </a:t>
            </a: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поляриметром</a:t>
            </a: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 или </a:t>
            </a:r>
            <a:r>
              <a:rPr b="1" i="1" lang="en-US" sz="3600" spc="-1" strike="noStrike">
                <a:solidFill>
                  <a:srgbClr val="cc0000"/>
                </a:solidFill>
                <a:latin typeface="Calibri"/>
              </a:rPr>
              <a:t>сахариметром</a:t>
            </a:r>
            <a:r>
              <a:rPr b="1" i="1" lang="en-US" sz="3600" spc="-1" strike="noStrike">
                <a:solidFill>
                  <a:srgbClr val="009999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su5"/>
          <p:cNvPicPr/>
          <p:nvPr/>
        </p:nvPicPr>
        <p:blipFill>
          <a:blip r:embed="rId2"/>
          <a:stretch/>
        </p:blipFill>
        <p:spPr>
          <a:xfrm>
            <a:off x="-181080" y="0"/>
            <a:ext cx="5038920" cy="537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t2_1149667546"/>
          <p:cNvPicPr/>
          <p:nvPr/>
        </p:nvPicPr>
        <p:blipFill>
          <a:blip r:embed="rId3"/>
          <a:stretch/>
        </p:blipFill>
        <p:spPr>
          <a:xfrm>
            <a:off x="4867200" y="-243000"/>
            <a:ext cx="42768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4"/>
          <a:stretch/>
        </p:blipFill>
        <p:spPr>
          <a:xfrm>
            <a:off x="-252360" y="5181480"/>
            <a:ext cx="11664720" cy="1676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0"/>
          <p:cNvSpPr txBox="1"/>
          <p:nvPr/>
        </p:nvSpPr>
        <p:spPr>
          <a:xfrm>
            <a:off x="755640" y="5229360"/>
            <a:ext cx="359424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Сахариметр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универсальный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СУ-5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</p:txBody>
      </p:sp>
      <p:sp>
        <p:nvSpPr>
          <p:cNvPr id="98" name="WordArt 11"/>
          <p:cNvSpPr txBox="1"/>
          <p:nvPr/>
        </p:nvSpPr>
        <p:spPr>
          <a:xfrm>
            <a:off x="5364000" y="5300640"/>
            <a:ext cx="304812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Поляриметр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портативный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c0504d"/>
                </a:solidFill>
                <a:latin typeface="Arial"/>
              </a:rPr>
              <a:t>П-161М</a:t>
            </a:r>
            <a:endParaRPr b="1" lang="en-US" sz="1800" spc="1" strike="noStrike">
              <a:ln w="9360">
                <a:solidFill>
                  <a:srgbClr val="c0504d"/>
                </a:solidFill>
                <a:miter/>
              </a:ln>
              <a:solidFill>
                <a:srgbClr val="c0504d"/>
              </a:solidFill>
              <a:latin typeface="Arial"/>
              <a:ea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6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"/>
          <p:cNvPicPr/>
          <p:nvPr/>
        </p:nvPicPr>
        <p:blipFill>
          <a:blip r:embed="rId7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"/>
          <p:cNvPicPr/>
          <p:nvPr/>
        </p:nvPicPr>
        <p:blipFill>
          <a:blip r:embed="rId8"/>
          <a:stretch/>
        </p:blipFill>
        <p:spPr>
          <a:xfrm>
            <a:off x="4495680" y="2890800"/>
            <a:ext cx="152640" cy="107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9"/>
          <a:stretch/>
        </p:blipFill>
        <p:spPr>
          <a:xfrm>
            <a:off x="4788000" y="0"/>
            <a:ext cx="21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d60093"/>
                </a:solidFill>
                <a:uFillTx/>
                <a:latin typeface="Calibri"/>
              </a:rPr>
              <a:t>Поляризация света</a:t>
            </a:r>
            <a:endParaRPr b="0" lang="en-US" sz="36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858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Calibri"/>
              </a:rPr>
              <a:t>Поляризация света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– одно из фундаментальных свойств оптического излучения, состоящее в неравноправии различных направлений в плоскости, перпендикулярной световому лучу.</a:t>
            </a: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Впервые понятие о поляризации света было введено в оптику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Calibri"/>
              </a:rPr>
              <a:t>И. Ньютоном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в 1704 г</a:t>
            </a:r>
            <a:r>
              <a:rPr b="0" lang="en-US" sz="3200" spc="-1" strike="noStrike">
                <a:solidFill>
                  <a:srgbClr val="00999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2600" y="27432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0093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polariz2"/>
          <p:cNvPicPr/>
          <p:nvPr/>
        </p:nvPicPr>
        <p:blipFill>
          <a:blip r:embed="rId2"/>
          <a:stretch/>
        </p:blipFill>
        <p:spPr>
          <a:xfrm>
            <a:off x="0" y="-63360"/>
            <a:ext cx="9144000" cy="702468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09" name="WordArt 5"/>
          <p:cNvSpPr txBox="1"/>
          <p:nvPr/>
        </p:nvSpPr>
        <p:spPr>
          <a:xfrm>
            <a:off x="1116000" y="5589720"/>
            <a:ext cx="403236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дел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яризация св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61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У поляризованного луча, пропущенного через слой раствора оптически активного вещества, меняется направление колебаний, а плоскость поляризации оказывается повернутой на некоторый угол, называемый </a:t>
            </a:r>
            <a:r>
              <a:rPr b="1" i="1" lang="en-US" sz="3200" spc="-1" strike="noStrike" u="sng">
                <a:solidFill>
                  <a:srgbClr val="1f497d"/>
                </a:solidFill>
                <a:uFillTx/>
                <a:latin typeface="Calibri"/>
              </a:rPr>
              <a:t>углом поворота плоскости поляризации</a:t>
            </a: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, который зависит от поворота плоскости поляризации, концентрации и толщины слоя раствора, длины волны поляризованного луча и температуры.</a:t>
            </a:r>
            <a:r>
              <a:rPr b="1" i="1" lang="en-US" sz="32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5:21:03Z</dcterms:created>
  <dc:creator>хим</dc:creator>
  <dc:description/>
  <cp:keywords/>
  <dc:language>en-US</dc:language>
  <cp:lastModifiedBy>Пользователь</cp:lastModifiedBy>
  <dcterms:modified xsi:type="dcterms:W3CDTF">2012-06-28T06:56:09Z</dcterms:modified>
  <cp:revision>2</cp:revision>
  <dc:subject/>
  <dc:title>Слайд 1</dc:title>
</cp:coreProperties>
</file>